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56935"/>
        <c:axId val="80106756"/>
      </c:barChart>
      <c:catAx>
        <c:axId val="84256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06756"/>
        <c:crosses val="autoZero"/>
        <c:auto val="1"/>
        <c:lblAlgn val="ctr"/>
        <c:lblOffset val="100"/>
        <c:noMultiLvlLbl val="0"/>
      </c:catAx>
      <c:valAx>
        <c:axId val="80106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56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BF6-16C3-4F1E-9217-7D70CFFB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6A0-ADB7-4635-8969-2184014A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058-D778-49A0-B4EA-466665B2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77E-2839-4556-B7E8-87E1954A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4CF-18E0-4A36-BD67-6DD6872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40C-8923-4C00-93B8-6E0832C0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E0F-839D-48BE-B926-F117BA62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01E-F1BE-4A09-9282-BC723E6A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3D3-6BF2-4AFE-A6D1-E66BF1B9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40E-0D0C-4B3B-ADA5-E476D0C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7E0-008C-4D52-8A60-D0B8CD5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C5D-7E44-4CBF-A7B4-FE868B3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5ACE3-6ED0-4CDF-BF8D-1D8506A8A3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