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552429"/>
        <c:axId val="79071785"/>
      </c:barChart>
      <c:catAx>
        <c:axId val="745524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71785"/>
        <c:crosses val="autoZero"/>
        <c:auto val="1"/>
        <c:lblAlgn val="ctr"/>
        <c:lblOffset val="100"/>
        <c:noMultiLvlLbl val="0"/>
      </c:catAx>
      <c:valAx>
        <c:axId val="790717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524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B3FB-42C3-4057-B0E8-34CD1D29E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A984-B35D-48F7-906E-F5D2E82B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54D9-5DDA-4F94-8D85-9A0EB6C7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711A-9237-41A1-914B-29F9DF22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35CE-0946-4528-8E41-F7E30E6B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AE99-5A9E-4066-ACA7-0B608A87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CA4D-809F-44AE-9AFF-1B54EC98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D63F-0D77-44C4-BE67-0DA9E9D0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EC21-2E18-4A34-BBB4-254BFA7D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CB2F-19ED-4E5D-873D-57D578BD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5B75-054C-42E0-ADCD-A5211959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6A25-9604-4311-9CF4-6C94B462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D45D9-AA5C-4D4F-B22B-309B5CEB8F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