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09106"/>
        <c:axId val="66426891"/>
      </c:barChart>
      <c:catAx>
        <c:axId val="81609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26891"/>
        <c:crosses val="autoZero"/>
        <c:auto val="1"/>
        <c:lblAlgn val="ctr"/>
        <c:lblOffset val="100"/>
        <c:noMultiLvlLbl val="0"/>
      </c:catAx>
      <c:valAx>
        <c:axId val="66426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09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E3D-865D-42CD-8206-8CD13BD2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992-526C-4183-AB98-CC36B4B2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BB2-0617-430F-BE9C-D09DBF31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8EB-116A-43F9-A30E-0DC7A566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3CB-6A4C-42EB-A9C9-01FD1A86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801-84C5-4CE4-84EA-02F94F75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C44-84EA-426C-B467-E38FF148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19C-912F-4611-ADE7-B368EAAB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283-7C12-43AC-BF3E-AF16340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6AF-32BA-4A8F-AD1E-8D64616C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01B-5A60-41ED-AB32-334075E4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5B6-999A-4D63-B9B2-6E09286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DFAAD-EBBF-4D51-A333-C1E9335F92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