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653946"/>
        <c:axId val="65820666"/>
      </c:barChart>
      <c:catAx>
        <c:axId val="78653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20666"/>
        <c:crosses val="autoZero"/>
        <c:auto val="1"/>
        <c:lblAlgn val="ctr"/>
        <c:lblOffset val="100"/>
        <c:noMultiLvlLbl val="0"/>
      </c:catAx>
      <c:valAx>
        <c:axId val="65820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53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855-CD6E-415E-B7F5-ACA443CF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2E2-AF36-41EA-A566-1EFADF7C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4CE-7113-4DB8-AE71-65B5BFEE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15E5-6D53-4966-87C3-9250A531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F2F-EDD7-46D4-AF8F-B335843D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B001-3CF1-47AB-9D63-0157BEED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3A7-FAE8-40A4-839E-8452A8A3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BDB6-1D75-4FE9-867D-0CD8C344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BACD-41E7-4043-ABFA-27911716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637A-10B7-4642-968B-138F7BCE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DA2-65FA-4018-90BD-68C05CE2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4514-17B6-4F19-B027-82300DAC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BC2E9-F6A9-440B-B0F0-5582AF0075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