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25558"/>
        <c:axId val="47347007"/>
      </c:barChart>
      <c:catAx>
        <c:axId val="46525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47007"/>
        <c:crosses val="autoZero"/>
        <c:auto val="1"/>
        <c:lblAlgn val="ctr"/>
        <c:lblOffset val="100"/>
        <c:noMultiLvlLbl val="0"/>
      </c:catAx>
      <c:valAx>
        <c:axId val="47347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25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1DF-B02A-452A-9059-BC0E643F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BAB-400A-4566-8530-EE135539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70F-CA8E-4C80-894D-68F3F953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65C-75BA-48A4-8DA4-B1CD60DD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AE4-CA02-47BC-83BF-400297C2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5AC-3F69-49C4-BE8E-F3CE0A2F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792-CEDB-4641-A9EC-9DBF6E6D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46B-88E2-45C9-9518-C5921B9E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EDC-74C1-450B-BC6F-FCAD7915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353-A8F0-47B1-8E91-0198D489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412-1808-45C3-BEEB-998C43BE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A8D-B09B-4938-8130-EA084EB0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1446B-A023-4D52-B24D-76F0AA477D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