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6621860"/>
        <c:axId val="44004280"/>
      </c:barChart>
      <c:catAx>
        <c:axId val="7662186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004280"/>
        <c:crosses val="autoZero"/>
        <c:auto val="1"/>
        <c:lblAlgn val="ctr"/>
        <c:lblOffset val="100"/>
        <c:noMultiLvlLbl val="0"/>
      </c:catAx>
      <c:valAx>
        <c:axId val="4400428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62186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AEFAC-FE95-40E8-A261-08AEE9D74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45595-209B-4E52-95BF-B018BB4B7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E6549-92F9-4276-98A3-5AC452761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50974-E864-459D-B645-AB9193BC6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32A44-4D3A-4543-B7DF-5E4849D26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F4E4D-5795-46F3-A860-B1E516830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37F85-2AF4-4F3C-ACF8-0F9411F49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F52C4-D90A-4B54-A813-4B88C7DB9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6CA83-E97E-460D-A208-CB123A3C5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3A151-1D99-4A0B-B42E-276E081F4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17288-93A8-409F-9044-8AE4A2F24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23A8C-8D4D-47CC-B0C5-79571FDC1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F8D7BB-DCF1-4F31-B022-350C62708EF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