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92394"/>
        <c:axId val="67671982"/>
      </c:barChart>
      <c:catAx>
        <c:axId val="19692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71982"/>
        <c:crosses val="autoZero"/>
        <c:auto val="1"/>
        <c:lblAlgn val="ctr"/>
        <c:lblOffset val="100"/>
        <c:noMultiLvlLbl val="0"/>
      </c:catAx>
      <c:valAx>
        <c:axId val="67671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2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FD7-D93D-4CE1-ABAA-3EC0C43B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BD5-3190-4D4F-8FBD-3E51E260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A5D-B9DB-4465-9595-B91EF595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EF7-98DA-40CF-BCED-4D9960F5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B71-FEDD-4E92-A516-A3685872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4AB-E4B8-48E8-B8BE-C508653C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89D-967A-4169-91FC-C248747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ACBA-17EA-47C8-AD21-AEB775F4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D734-C8B0-4634-9528-CCC3D8F3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703-CD45-4BC9-934A-48B5266F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F35-A08D-436E-A103-097181CC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AFD-0B70-4220-AC58-F338C00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8B236-7438-449B-AECE-4342B660EB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