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16682"/>
        <c:axId val="41069838"/>
      </c:barChart>
      <c:catAx>
        <c:axId val="82016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69838"/>
        <c:crosses val="autoZero"/>
        <c:auto val="1"/>
        <c:lblAlgn val="ctr"/>
        <c:lblOffset val="100"/>
        <c:noMultiLvlLbl val="0"/>
      </c:catAx>
      <c:valAx>
        <c:axId val="41069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16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609-02B8-4ADF-B2C2-408ECD2D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FBC-AAB0-40CB-A740-0483D112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604-08D9-475E-85EB-C796FE48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81A-B025-426C-8676-722EF25B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0CE-E3A6-4CA6-BCBC-D122DE8D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9C1-9141-4F38-8DFE-132DED95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348-6E9A-4B98-8C0A-2793BA7A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39D-38C0-4977-BC1B-AEAC5734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5B9-9C68-4205-86BB-43A548E5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BA7-5691-4867-8CEB-74380C2E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6F7-A377-402C-93A6-57870844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549-DA3E-4096-87E5-4C437B19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7E095-B401-48B7-9FB5-1115068CE1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