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074176"/>
        <c:axId val="23292954"/>
      </c:barChart>
      <c:catAx>
        <c:axId val="70741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92954"/>
        <c:crosses val="autoZero"/>
        <c:auto val="1"/>
        <c:lblAlgn val="ctr"/>
        <c:lblOffset val="100"/>
        <c:noMultiLvlLbl val="0"/>
      </c:catAx>
      <c:valAx>
        <c:axId val="232929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741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A9836-CB87-4BF0-B0B2-C4A1FBE92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1D8F5-44BC-4989-9501-84E7C5511B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16DD5-8933-4CB2-9612-ADF5D87B2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F0D12-DAF8-4911-805C-567EB597D0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32D18-3355-48C4-916F-4F62D6E20B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9FA45-0760-4B80-9B6E-DD8BA0961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55D31-8903-415D-91B5-61A10E76F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8697F-E2D3-447C-8CC6-1AD76A5CAB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771252-98B9-46E2-BE05-B1489054A0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0B0B8-0849-473B-81DE-F71006A29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750E8-52FB-400E-B8E2-D70CCE4017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1C1A4-C882-4C39-9EC7-9421FA47F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3DEEA4-AA00-47D9-A6BD-5234CF5911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