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52373"/>
        <c:axId val="23720554"/>
      </c:barChart>
      <c:catAx>
        <c:axId val="88252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20554"/>
        <c:crosses val="autoZero"/>
        <c:auto val="1"/>
        <c:lblAlgn val="ctr"/>
        <c:lblOffset val="100"/>
        <c:noMultiLvlLbl val="0"/>
      </c:catAx>
      <c:valAx>
        <c:axId val="23720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52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B842-7C57-46D2-AE24-E8F119B5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5EE-963A-4742-A38A-8FEF48E8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469-F8CE-4D1F-B28C-B6B9A897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1A0-5140-4DE8-A83B-EC6D165B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2C6-96D7-433A-B726-575C9D31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481-D740-43E4-B6AB-7A9A3F02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FE4-E788-44BB-A8EE-15804B44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EC0-3FCA-40A6-A8C4-87DE0FB5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E88-0B1B-459A-8331-F25354C7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E80-C7AF-4EE6-B4AA-5991CD87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984-B705-4C5E-BBD7-31A65452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B01-45A2-42EB-9983-034EDB0F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21F2B-630B-4451-9624-E027B67141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