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96665"/>
        <c:axId val="88014590"/>
      </c:barChart>
      <c:catAx>
        <c:axId val="50796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14590"/>
        <c:crosses val="autoZero"/>
        <c:auto val="1"/>
        <c:lblAlgn val="ctr"/>
        <c:lblOffset val="100"/>
        <c:noMultiLvlLbl val="0"/>
      </c:catAx>
      <c:valAx>
        <c:axId val="88014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96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181-8198-44F6-9F01-729DE6C6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336-A592-4E03-A6A5-88B3CE37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86D-8E95-4469-BDE7-7FD50A5B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1DA-CD5B-4BBD-8244-8DA0BFC0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02A-F031-42A1-AB3A-561A75F8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89C-07AA-4C3E-8F10-49A1B468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828-1305-4C45-9FBD-711A18F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834-D6E7-46DE-89C3-9AEEFF7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91E-3007-4752-B452-272BCF8B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DD5-E1FA-4547-93AC-F7C1F18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1B1-A43A-4834-8983-0DD3909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88E-8FDD-4FD3-A6F6-2CA9227C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A9277-2451-474F-99DF-8411350E42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