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760343"/>
        <c:axId val="93139803"/>
      </c:barChart>
      <c:catAx>
        <c:axId val="577603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139803"/>
        <c:crosses val="autoZero"/>
        <c:auto val="1"/>
        <c:lblAlgn val="ctr"/>
        <c:lblOffset val="100"/>
        <c:noMultiLvlLbl val="0"/>
      </c:catAx>
      <c:valAx>
        <c:axId val="931398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7603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D405-DFC8-496B-A177-F71943A10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0DEF-3E1B-496D-BF38-B139B93D9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7663-0C63-4D68-AA31-7F4E90104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32A7-5B1F-4F5D-83CE-3B32E6557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1A07-1DFD-44DC-A9F9-D9429D48A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D274-7E8F-4F03-B54E-DE043C43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FB70-1845-450B-9127-4087DE5C5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0BEB-F697-42E0-8B17-FFB3D5C7B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F93B-9F84-4579-BBE6-95424D7DA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4FD2-E315-4AC1-80D9-CC88E017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BEF7-B0B6-4E71-BF04-182B338E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4653-43F5-44A6-AA63-25FA9814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9AACC4-BD89-4AB5-B0CF-D347CA9064D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