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24651"/>
        <c:axId val="12967329"/>
      </c:barChart>
      <c:catAx>
        <c:axId val="99624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7329"/>
        <c:crosses val="autoZero"/>
        <c:auto val="1"/>
        <c:lblAlgn val="ctr"/>
        <c:lblOffset val="100"/>
        <c:noMultiLvlLbl val="0"/>
      </c:catAx>
      <c:valAx>
        <c:axId val="12967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24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8FC-06CD-42B1-939E-03D21F90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7CA-791A-4DC4-8DC1-F3A4B4A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A4B-C51B-4D0B-9133-7BBBC18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E9B-3A35-4744-B99B-FBCADB27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2A-24BF-49CC-9B2E-F7CC829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EFF-2FBE-439E-9D61-2A1E407A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7A3-9F5F-4307-B73D-103029A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A53-84B4-41ED-B0A6-FE9624C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6E6-0E96-4E59-820E-3E28B41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3AB-8664-46BD-8AEE-7E5A554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DC5-EA6E-472A-A030-EFA724B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47A-305D-45C6-B9F8-C15ED57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74CA8-9C33-4ACA-8D7F-0D750D072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