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608588"/>
        <c:axId val="42082002"/>
      </c:barChart>
      <c:catAx>
        <c:axId val="516085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82002"/>
        <c:crosses val="autoZero"/>
        <c:auto val="1"/>
        <c:lblAlgn val="ctr"/>
        <c:lblOffset val="100"/>
        <c:noMultiLvlLbl val="0"/>
      </c:catAx>
      <c:valAx>
        <c:axId val="420820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085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75A-06A4-43B8-88CB-C6900C49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321-1FD2-434A-BD94-C1EF81E6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74A-E879-49CB-A144-1E21CF5E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5D91-1DD5-4D66-BAE7-5D6F9B57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A05-B55A-4986-ADC1-E9FE687A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7BE4-13BE-4089-9783-3699F60D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4E9F-56BD-4EE8-9374-D720368E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F3B4-C439-4DAF-ACD6-962B7477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999B-8CC7-4380-B1CE-B2B787D0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081-DEDB-4FFE-B2FC-0331AA9E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785-6EB5-45B4-A10F-C3958FBD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34E-6400-4A66-9EF6-B59D7905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500DC-9C93-4301-9A20-FB00902A7C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