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436382"/>
        <c:axId val="74398396"/>
      </c:barChart>
      <c:catAx>
        <c:axId val="214363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98396"/>
        <c:crosses val="autoZero"/>
        <c:auto val="1"/>
        <c:lblAlgn val="ctr"/>
        <c:lblOffset val="100"/>
        <c:noMultiLvlLbl val="0"/>
      </c:catAx>
      <c:valAx>
        <c:axId val="743983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363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F6E7-2273-4C7D-8C1B-54349E17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EC3E-CF4D-4DA9-8DD5-CDA22DF2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E172-7FE4-4058-B7C2-A56ECA83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A90F-9C9D-4075-BF83-5EC39666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CB25-0D3E-48F9-A93F-6B2C419F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F9E1-C3E9-4CC8-9E6E-3A80BEC0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33E8-DDC8-4098-AF77-240EFB37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532F-3716-4AE0-ADF8-0528B23E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9F5-8890-4298-A2A0-E096F5BA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3061-5A94-47BB-BCAE-EE4EACD1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6D09-6961-49F3-8642-9415F546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CFA-EB15-4EAD-8DAE-E7B960E8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B8B25-68C9-4EF3-B0DC-6452A7D35E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