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834590"/>
        <c:axId val="53896383"/>
      </c:barChart>
      <c:catAx>
        <c:axId val="128345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96383"/>
        <c:crosses val="autoZero"/>
        <c:auto val="1"/>
        <c:lblAlgn val="ctr"/>
        <c:lblOffset val="100"/>
        <c:noMultiLvlLbl val="0"/>
      </c:catAx>
      <c:valAx>
        <c:axId val="538963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8345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FB4C-143A-43CD-8F2E-8AC921D85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0873-B3FE-4F90-ADFB-39BC4B4D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4F54-B98F-4E7A-A2E6-10D07E9BE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38CE-89D1-4D1A-A4BB-7BBED648F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83EA-3E91-4C81-B465-A212213D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E61D-2B24-48D5-84D0-F23EC7F9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AB03-A4D4-4FEB-B020-1086F729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2AA2-FFBD-45F0-9212-76C07267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3EED-6EDD-4618-87AC-4E34F634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811D-A3DE-41CE-A7A1-2476AD8B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EC6C-2070-4281-9F12-6783ACC9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39B5-1186-4CD4-BB4E-A30C597E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1C526-8DF1-431A-8020-EDC17B8274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