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20885"/>
        <c:axId val="12881252"/>
      </c:barChart>
      <c:catAx>
        <c:axId val="67720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1252"/>
        <c:crosses val="autoZero"/>
        <c:auto val="1"/>
        <c:lblAlgn val="ctr"/>
        <c:lblOffset val="100"/>
        <c:noMultiLvlLbl val="0"/>
      </c:catAx>
      <c:valAx>
        <c:axId val="12881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20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F3C-8CC4-4037-B8BD-5090A0B5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731-673C-4AF7-BC4F-093893C7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8BD-9A4C-4CF4-841E-D35F1FB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FA3-7C9C-4EBD-A68E-6EE4B222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2FB-90DC-4B52-95E3-2328C2C3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C29-1781-4D2D-9AA7-FB9CAD81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565-DDBB-401B-B998-50582E1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698-E7C8-49F8-BD95-00E6D41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7BE-89E4-4183-A042-D93CDF3F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D29-5CD6-4AF9-8F19-27FB579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FA1-0805-4D42-A1AE-D06DE18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053-94C6-4680-8A23-0F213297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6E83-5404-492F-80BE-8DC514583D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