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15273"/>
        <c:axId val="9118639"/>
      </c:barChart>
      <c:catAx>
        <c:axId val="32315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639"/>
        <c:crosses val="autoZero"/>
        <c:auto val="1"/>
        <c:lblAlgn val="ctr"/>
        <c:lblOffset val="100"/>
        <c:noMultiLvlLbl val="0"/>
      </c:catAx>
      <c:valAx>
        <c:axId val="9118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15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AB7-A656-4E35-B56E-F076F5A2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519-BE1B-4441-896C-32FB4339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5FD-D533-4B4D-9FE2-B2A92B18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654-6E87-4EFA-A2B3-35FC1308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456-04CC-41C3-8629-DFF1714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A77-9956-4CED-9C21-DFD0222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14E-53C4-478A-9BAF-D225052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5B9-A511-4117-B4ED-1D66D3F5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46E-E040-41AA-8A7E-49466C6D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7A5-683D-4614-8384-95EB0C8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984-E4B3-494D-97DF-4EB5E27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481-07FC-44FE-B8D0-157328C9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E17CA-27E0-49E8-A1AC-5057C42C62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