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03900"/>
        <c:axId val="9183038"/>
      </c:barChart>
      <c:catAx>
        <c:axId val="212039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3038"/>
        <c:crosses val="autoZero"/>
        <c:auto val="1"/>
        <c:lblAlgn val="ctr"/>
        <c:lblOffset val="100"/>
        <c:noMultiLvlLbl val="0"/>
      </c:catAx>
      <c:valAx>
        <c:axId val="9183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039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861-07EE-4A9F-A067-A86BB07F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8F5-67F2-41EF-BCF9-89E9D264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31C-48F6-425D-AC8C-D1758E4F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7400-69B3-49DA-B98E-08CB14ED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C7E-8185-4486-8833-E401A385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274-274B-4908-87E7-525ABF0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F50B-0392-4B58-BEA2-DCFC83F4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67B-C237-4AB3-8453-F2167768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B7D-8430-4999-87AE-267CC6B1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56C-9F50-4E32-896E-71CD9D1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973-EA19-4472-AE6C-9BABE8DF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522-A8AD-4C1E-8989-62B94F50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6280B-645C-4EC6-BF5C-EADE2FB8F7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