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7501"/>
        <c:axId val="29565360"/>
      </c:barChart>
      <c:catAx>
        <c:axId val="4647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65360"/>
        <c:crosses val="autoZero"/>
        <c:auto val="1"/>
        <c:lblAlgn val="ctr"/>
        <c:lblOffset val="100"/>
        <c:noMultiLvlLbl val="0"/>
      </c:catAx>
      <c:valAx>
        <c:axId val="29565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BD4-3A50-432E-A369-F0D72EE1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720-7910-49B2-A1CE-7D868542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F9B-4E31-4D17-86F6-85A33DDC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6BF-5AD2-446E-BB69-BCE528B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EAC-489E-4E2C-90B6-48D5443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FDD-97F1-46A6-944D-9C9DE639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5F8-DB76-4C46-937D-8FD3ABD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9C3-FA00-4AD3-B4AA-E75B4DB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581-69CF-48F8-BA67-0727896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2D1-43A7-4926-9728-D95B807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5DB-F060-4F88-B553-E6FAB90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7D6-7007-42BC-8B91-3FCEF0FB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D1E87-8F40-4E4F-8D7D-6CA39D8436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