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818773"/>
        <c:axId val="64384253"/>
      </c:barChart>
      <c:catAx>
        <c:axId val="808187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384253"/>
        <c:crosses val="autoZero"/>
        <c:auto val="1"/>
        <c:lblAlgn val="ctr"/>
        <c:lblOffset val="100"/>
        <c:noMultiLvlLbl val="0"/>
      </c:catAx>
      <c:valAx>
        <c:axId val="643842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187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615A-D79A-47B3-855A-5E0634E7E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BED8-71AC-4403-807B-225CF441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E391-9A75-47DB-8FD3-55B106EF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4E84-F392-41EB-9E09-D9D5ACDBF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C682-48BF-471B-A2CE-CE771406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CD12-87D8-4FD3-B876-1B8A66D0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5CE8-9F61-47ED-A8EC-C9303553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AF69-B5E0-4DF4-A209-819B47DA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73B4-3FA5-43D4-9712-429F64E1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97D5-0A96-4CA5-8C8A-B2FCC1D6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528C-E6B3-4370-BF97-4E178F95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7896-9C9A-447E-A3FD-60CF859F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A1685-96E5-44CB-B704-404BD94F5B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