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519191"/>
        <c:axId val="32545736"/>
      </c:barChart>
      <c:catAx>
        <c:axId val="685191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45736"/>
        <c:crosses val="autoZero"/>
        <c:auto val="1"/>
        <c:lblAlgn val="ctr"/>
        <c:lblOffset val="100"/>
        <c:noMultiLvlLbl val="0"/>
      </c:catAx>
      <c:valAx>
        <c:axId val="325457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191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BEDF-548E-448A-B29D-F4377987A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8907-049D-4B69-902C-54F8E32F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5D54-52CE-42A7-B7B0-EDB72F427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129A-65B7-41F2-A6C3-BC8514EB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5FBE-BF28-4536-8700-1B1663A3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82F5-6594-4136-A514-3FE3BF03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AEE4-F95B-48BA-9DAF-404E6E5F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0C4B-BF56-43CE-81FE-945310E4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F95F-0C23-43A6-A49B-59F740E7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4ADC-BDE9-4569-884D-B0E93552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9D31-8CB8-46B5-97F1-8E06B863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7F11-3804-4C5F-B343-1A2D8749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6CB5E-8053-4E62-860B-6466723E8A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