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426600"/>
        <c:axId val="48663007"/>
      </c:barChart>
      <c:catAx>
        <c:axId val="374266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663007"/>
        <c:crosses val="autoZero"/>
        <c:auto val="1"/>
        <c:lblAlgn val="ctr"/>
        <c:lblOffset val="100"/>
        <c:noMultiLvlLbl val="0"/>
      </c:catAx>
      <c:valAx>
        <c:axId val="486630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4266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F25A-B002-4235-A000-E1F87247D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DD4D-D240-4628-AEDD-97AA464F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7117-4AE6-4B71-B18D-75413DD4F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84ED-BBF7-4882-88EB-C21687A86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8E6E-085B-4E5C-89EB-F3062142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2C95-A0D5-48A6-AA67-FC96C0D6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0DD1-FC52-4B40-8E25-F5B37995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CC16-E7C9-443B-A1EE-1218536F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6F66-9A28-42B6-934A-CDDE2F64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34AC-34EC-4084-8243-386F9F0A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9EFF-382A-4DF8-B7D5-5CDA0C6E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FB68-F6E3-4FC9-A326-D2250413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457FFF-ECE6-444E-BB54-E00F06D0C2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