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268973"/>
        <c:axId val="40859876"/>
      </c:barChart>
      <c:catAx>
        <c:axId val="28268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859876"/>
        <c:crosses val="autoZero"/>
        <c:auto val="1"/>
        <c:lblAlgn val="ctr"/>
        <c:lblOffset val="100"/>
        <c:noMultiLvlLbl val="0"/>
      </c:catAx>
      <c:valAx>
        <c:axId val="40859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68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33B3-CED5-48A4-8009-456344BBD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6CE9-5DA9-4365-8DE8-B849B9D5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32E3-0CE8-4B79-9777-C00E1446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8033-9C37-4238-9F7F-E1BA63E3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B4FD-46EB-4B33-A153-C681F873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8363-4A8B-4B19-9D48-3B7CB32A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7D7-ED99-472A-A2FD-5BE74ACC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A993-EC22-414D-AB77-19C661F3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931-23D2-41D0-8D8D-6B30EE12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8665-889C-4F48-9043-62A87D57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B6C-4861-4CF0-8AFE-97C0C143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65C-8971-4BAC-B9F9-77E1720A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2A310-CA61-4992-A9B9-2D16646159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