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24669"/>
        <c:axId val="30086863"/>
      </c:barChart>
      <c:catAx>
        <c:axId val="56824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6863"/>
        <c:crosses val="autoZero"/>
        <c:auto val="1"/>
        <c:lblAlgn val="ctr"/>
        <c:lblOffset val="100"/>
        <c:noMultiLvlLbl val="0"/>
      </c:catAx>
      <c:valAx>
        <c:axId val="30086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4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676-DF9C-4584-9A33-FA8E643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0C8-FB25-486C-B3AB-4E1EA32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06F-72BE-4708-9ADD-2660A86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167-103F-4F22-8620-FC68BB3A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396-9B96-431F-85EA-3D21033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F5A-304B-43EF-BA4C-0162D53A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36D-8B22-435D-A1FC-DF51FF77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818-6A39-47A4-BB42-27325CB7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A35-B5C5-41FD-8F27-8DE7B36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5F4-7F84-44CD-A15E-D8062A4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074-5DDA-4C91-8286-66E9A727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9F8-35C4-4CEB-8056-F0A40A7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A77C-4102-47C0-BCC8-5A8A7F09B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