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25388"/>
        <c:axId val="91525229"/>
      </c:barChart>
      <c:catAx>
        <c:axId val="97125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25229"/>
        <c:crosses val="autoZero"/>
        <c:auto val="1"/>
        <c:lblAlgn val="ctr"/>
        <c:lblOffset val="100"/>
        <c:noMultiLvlLbl val="0"/>
      </c:catAx>
      <c:valAx>
        <c:axId val="91525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25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621-157C-49FA-B4A0-CCA60113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64F-2A03-4192-A2C9-9849376D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F1A-86FC-4084-BC31-13C1012E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37D-044F-40CB-BBC9-27F7EE73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24B-1DF7-461D-962E-F9AC904F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EC3-04D5-4996-907F-FAD1CCCB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B75-E0D5-45C9-B01A-73B9F65E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E01-CD70-4B9F-82DC-918DF3D1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0CA-D6AC-4568-9352-67D10623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F55-82A9-48C0-A795-BFC9A933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905-D761-4922-BDC8-B12FA65D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EFE-7D4F-48E0-A643-0BF7A0AE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0570F-12ED-44F7-90D0-7A942B7941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