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04419"/>
        <c:axId val="38786880"/>
      </c:barChart>
      <c:catAx>
        <c:axId val="98004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86880"/>
        <c:crosses val="autoZero"/>
        <c:auto val="1"/>
        <c:lblAlgn val="ctr"/>
        <c:lblOffset val="100"/>
        <c:noMultiLvlLbl val="0"/>
      </c:catAx>
      <c:valAx>
        <c:axId val="38786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04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F93-93E5-4936-A87D-8DC6BF46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D8A-D897-4E32-A820-F2385DF3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BF4-5C76-48D9-99FB-974FB7D8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7F2-0F53-44C7-A966-EE684040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4E2-060B-4099-91A6-378A71F2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530-C003-46CD-9C62-EAA367AC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B69-7A13-416C-970C-6FEB6671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C11-5E1F-4E21-ABBE-9724E503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CB1-1CBC-4F87-B69C-D79A7D8A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3ED-3741-4868-8940-A6A2E3AA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47C-45C6-4973-AACA-6952D741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6E6-CA80-4E09-9AF1-1DD9B6CB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9BF58-CD62-4C82-977E-4C7470373B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