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76937"/>
        <c:axId val="63049957"/>
      </c:barChart>
      <c:catAx>
        <c:axId val="56676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49957"/>
        <c:crosses val="autoZero"/>
        <c:auto val="1"/>
        <c:lblAlgn val="ctr"/>
        <c:lblOffset val="100"/>
        <c:noMultiLvlLbl val="0"/>
      </c:catAx>
      <c:valAx>
        <c:axId val="63049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76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223-E5AB-4533-BF6C-F8766C6E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79F-020D-470F-8AD5-A6B996AC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414-A1D7-4852-9360-81984C1F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686-622D-4739-AF05-2E15BAC6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C81-B30A-46E6-83EE-90560282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1EC-6758-4EA6-9380-4DC72C2D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76A-7DE1-47CC-8AF8-15DFBFE4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FF9-B8D9-4B85-8539-03CB8B53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AF9-051B-46A0-99F1-65B3CBA7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074-8B5C-4C41-A054-054C24E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C6B-F6D6-4E04-96EA-8A60041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499-47BE-4F6C-B684-C72295A0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19D48-D28B-4B9B-88F6-28ADD26463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