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98656"/>
        <c:axId val="78411160"/>
      </c:barChart>
      <c:catAx>
        <c:axId val="17298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11160"/>
        <c:crosses val="autoZero"/>
        <c:auto val="1"/>
        <c:lblAlgn val="ctr"/>
        <c:lblOffset val="100"/>
        <c:noMultiLvlLbl val="0"/>
      </c:catAx>
      <c:valAx>
        <c:axId val="78411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98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A00-4D89-4EC0-8454-2EB3091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E6C-B061-41CC-BF83-3B6491E8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268-5C0C-480F-8437-6AFD7953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EFD-9F20-46BE-B47C-6BE5FB2C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166-7E67-4BE0-82B8-00FCFE9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B23-EF10-4B81-B756-D9808344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6B71-6266-46D6-9282-CEF9FD9B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364-4C28-4C53-B87B-8D6A02C9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5D5-433B-42AC-98B5-69EED1F1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B1C-9C8C-4496-8B23-8986026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DA5-089A-4253-A348-B7B3995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F07-406D-4668-B094-214483C5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D3FC0-0AF2-4639-A83A-E68E0DA813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