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45309"/>
        <c:axId val="80802590"/>
      </c:barChart>
      <c:catAx>
        <c:axId val="94045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2590"/>
        <c:crosses val="autoZero"/>
        <c:auto val="1"/>
        <c:lblAlgn val="ctr"/>
        <c:lblOffset val="100"/>
        <c:noMultiLvlLbl val="0"/>
      </c:catAx>
      <c:valAx>
        <c:axId val="80802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5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AF2-FF68-43B3-9A6F-A2B554F0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9BB-0AA9-4D25-A5E0-46D64EFE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598-22CD-400C-93D0-E689EA3E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2A6-D5C5-47FF-BAE6-9C62629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85C-3495-4257-A630-887151E3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50B-74BC-4BB6-9A32-EEC29E9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865-F1C9-4B0F-8FFC-7B4A680A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0A6-FA62-4FBE-8EDA-D896906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018-E1A4-48F2-94C5-5C56352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9F3-8082-4A95-B214-2168435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466-CD3D-4A0A-BE04-D22F8E7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A1E-77CC-4F61-A20E-83A357A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C1E23-7A5A-44A8-9285-6DB10B827F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